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9A1-4E0B-4F33-903E-03E68C14A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51A3-9784-46F3-9FB6-B1E117A38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19C7-5995-4275-9F8B-FBBF00122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8B03-638B-4F40-9F39-2F714AA7F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6967-8903-4916-9598-3E3B46C93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FCC3-B69E-44DC-B384-226F6274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654-87C3-4867-841C-D8A1EC85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B2BA-81C3-4AEE-A6C4-2F6CE300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BFB3-CD2B-4726-9D05-21FE2D56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717F-AB68-4AB6-8718-ABA3AA18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D9A8-D5E8-4C49-BFC4-CB70F696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F2EC-A3C8-4D4E-B410-DDA171EB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1FECF-F255-4F52-B544-6ABA75304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ne video in wi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mbed” and widgets for wik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You must be register in gmail service or youtube (better in gmail, there is a very good post service and other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 flipV="1">
            <a:off x="3851280" y="333360"/>
            <a:ext cx="201600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84720" y="2133720"/>
            <a:ext cx="18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Tool for insert video or other widg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 flipH="1">
            <a:off x="2195280" y="1197000"/>
            <a:ext cx="2663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48360" y="1052640"/>
            <a:ext cx="27367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ing clik in “tv” icono open this window. You want insert one video ¿n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in video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372360" y="2421000"/>
            <a:ext cx="194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sually is Youtube vide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ou, can insert other, y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156360" y="836640"/>
            <a:ext cx="2736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kicking in “youtube” link, open it and you can insert emb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MBED IS HTLM TEXT ORIGINAL IN YOUTUBE SERVICE ABOUT MOV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932360" y="3068640"/>
            <a:ext cx="1224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708360" y="1052640"/>
            <a:ext cx="201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his is EM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OU ONLY NEED COPY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2133720"/>
            <a:ext cx="12254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1523880" y="-1447920"/>
            <a:ext cx="12191760" cy="9753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56360" y="836640"/>
            <a:ext cx="273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w you must paste EMBED 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nd sav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HAT’S ALL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932360" y="1557360"/>
            <a:ext cx="15112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43280" y="3500280"/>
            <a:ext cx="42498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&lt;object width="560" height="340"&gt;&lt;param name="movie" value="http://www.youtube.com/v/mdW861NlHE8&amp;hl=es_ES&amp;fs=1&amp;"&gt;&lt;/param&gt;&lt;param name="allowFullScreen" value="true"&gt;&lt;/param&gt;&lt;param name="allowscriptaccess" value="always"&gt;&lt;/param&gt;&lt;embed src="http://www.youtube.com/v/mdW861NlHE8&amp;hl=es_ES&amp;fs=1&amp;" type="application/x-shockwave-flash" allowscriptaccess="always" allowfullscreen="true" width="560" height="340"&gt;&lt;/embed&gt;&lt;/object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5:35:48Z</dcterms:created>
  <dc:creator>INFO1</dc:creator>
  <dc:description/>
  <dc:language>en-US</dc:language>
  <cp:lastModifiedBy>INFO1</cp:lastModifiedBy>
  <dcterms:modified xsi:type="dcterms:W3CDTF">2009-12-09T15:59:32Z</dcterms:modified>
  <cp:revision>3</cp:revision>
  <dc:subject/>
  <dc:title>One video in wiki</dc:title>
</cp:coreProperties>
</file>